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19.jpeg" ContentType="image/jpeg"/>
  <Override PartName="/ppt/media/image29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28.jpeg" ContentType="image/jpeg"/>
  <Override PartName="/ppt/media/image7.jpeg" ContentType="image/jpeg"/>
  <Override PartName="/ppt/media/image34.jpeg" ContentType="image/jpeg"/>
  <Override PartName="/ppt/media/image30.jpeg" ContentType="image/jpeg"/>
  <Override PartName="/ppt/media/image3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1CB1-FCF9-49A0-8281-9FEA98662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D35B-5982-4BFB-81F0-B2AD6948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5A4E-6695-427B-954E-1CE1E5003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DC4C-0D58-4AC0-BCC9-CF9B0B726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4518-E592-4FB5-A615-B6A837117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C48D-2365-4283-A809-F697CCE9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2F9F-F93E-4CB2-823A-055C7FE6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CC46-52D5-4840-BA31-DAE75281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8165-C74A-4A3B-B2AF-1828B50F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D551-AD49-4FA6-824E-84E047E0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9B9B-5273-428F-B862-10D84395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2AEA-D3CC-4E14-B155-9BD97156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F98F-AE62-4C94-B07A-2E3B859A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1832-D923-4E52-BF89-0EFE6DEE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07E9-D278-457F-8CB5-C6692AB0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91A0-38DE-421A-8DC8-4A08FC38F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D1A8-412D-41F1-B542-B51A82FB0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A0A57-3D05-4BBB-91DF-99CC4DBBF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A1F53-B717-4E95-84FA-A1B5858E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7FEA0-A10F-4AC6-8D99-42DB5114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3AD3E-C5AB-463B-B565-6093D4C6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DC0ED-42D4-465A-BC87-E41AA660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9776-BC0C-485C-B19D-CF5E4F10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6F15B-CA87-4594-A790-EEE60CB7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9AE7F-508F-4428-8DA7-29278626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A379F-2567-48E0-A5D4-4DFC0F21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980C2-8702-491F-ACB5-4AA3A86D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C3E3E-1310-4B6E-B7B8-CAA2DF10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42420-7178-43D3-80AE-6B9FA3EC4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807C5-60DF-4630-9D89-8267CFCB7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F92E-A800-4BD6-9EBC-786C7925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8CB3-2EFF-4D1C-871C-D5BB629E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3228-201A-4C97-8C54-7380A9DC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9790-392F-4673-B9C9-B2A93008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A3BE-65EC-47C7-A0B3-4722D520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2DA4-3190-43D6-9471-F5FC8380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109C-4827-4E0A-A365-6FF102DFD2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4424-C93F-41CD-BFCE-923C330C1A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E5D1-F748-42F0-8FB3-0FB3EDB852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http://fs00.infourok.ru/images/doc/190/217116/img21.jpg"/>
          <p:cNvPicPr/>
          <p:nvPr/>
        </p:nvPicPr>
        <p:blipFill>
          <a:blip r:embed="rId1"/>
          <a:stretch/>
        </p:blipFill>
        <p:spPr>
          <a:xfrm>
            <a:off x="428760" y="214200"/>
            <a:ext cx="8358120" cy="642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http://fs1.ppt4web.ru/images/95377/154818/640/img9.jpg"/>
          <p:cNvPicPr/>
          <p:nvPr/>
        </p:nvPicPr>
        <p:blipFill>
          <a:blip r:embed="rId1"/>
          <a:stretch/>
        </p:blipFill>
        <p:spPr>
          <a:xfrm>
            <a:off x="928800" y="1071720"/>
            <a:ext cx="574992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http://www.playcast.ru/uploads/2015/11/19/15949859.jpg"/>
          <p:cNvPicPr/>
          <p:nvPr/>
        </p:nvPicPr>
        <p:blipFill>
          <a:blip r:embed="rId1"/>
          <a:stretch/>
        </p:blipFill>
        <p:spPr>
          <a:xfrm>
            <a:off x="500040" y="285840"/>
            <a:ext cx="7267680" cy="51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http://www.tdkalejdoskop.ru/items/323836/0/700-nw.jpg"/>
          <p:cNvPicPr/>
          <p:nvPr/>
        </p:nvPicPr>
        <p:blipFill>
          <a:blip r:embed="rId1"/>
          <a:srcRect l="14712" t="14712" r="11760" b="14712"/>
          <a:stretch/>
        </p:blipFill>
        <p:spPr>
          <a:xfrm>
            <a:off x="714240" y="500040"/>
            <a:ext cx="1785960" cy="1714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http://www.komus.ru/photo/_full/54362_1.jpg"/>
          <p:cNvPicPr/>
          <p:nvPr/>
        </p:nvPicPr>
        <p:blipFill>
          <a:blip r:embed="rId2"/>
          <a:srcRect l="10779" t="8091" r="5688" b="11078"/>
          <a:stretch/>
        </p:blipFill>
        <p:spPr>
          <a:xfrm>
            <a:off x="6357960" y="1214280"/>
            <a:ext cx="2214720" cy="2143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http://catalog.grt.ru/104368-thickbox_default/slp029c_rd-avtoruchka-sharikovaia.jpg"/>
          <p:cNvPicPr/>
          <p:nvPr/>
        </p:nvPicPr>
        <p:blipFill>
          <a:blip r:embed="rId3"/>
          <a:srcRect l="0" t="34664" r="0" b="35035"/>
          <a:stretch/>
        </p:blipFill>
        <p:spPr>
          <a:xfrm rot="3464400">
            <a:off x="3683880" y="1795320"/>
            <a:ext cx="1649520" cy="500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http://www.laboutiquespatiale.com/media/catalog/product/cache/2/image/800x800/9df78eab33525d08d6e5fb8d27136e95/f/i/file_54_9.jpg"/>
          <p:cNvPicPr/>
          <p:nvPr/>
        </p:nvPicPr>
        <p:blipFill>
          <a:blip r:embed="rId4"/>
          <a:srcRect l="19449" t="8339" r="16664" b="5555"/>
          <a:stretch/>
        </p:blipFill>
        <p:spPr>
          <a:xfrm rot="1048800">
            <a:off x="5938560" y="3767040"/>
            <a:ext cx="1643040" cy="2214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http://www.informat.ru/upload/iblock/258/25865d46252cd32f0df1c78d1de333c8.jpg"/>
          <p:cNvPicPr/>
          <p:nvPr/>
        </p:nvPicPr>
        <p:blipFill>
          <a:blip r:embed="rId5"/>
          <a:srcRect l="3030" t="6060" r="9090" b="6060"/>
          <a:stretch/>
        </p:blipFill>
        <p:spPr>
          <a:xfrm rot="19629600">
            <a:off x="754200" y="2754000"/>
            <a:ext cx="2071440" cy="2071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6" descr="https://im2-tub-ru.yandex.net/i?id=7c42ce0d54521283e4befa1350b8b1c8-l&amp;n=13"/>
          <p:cNvPicPr/>
          <p:nvPr/>
        </p:nvPicPr>
        <p:blipFill>
          <a:blip r:embed="rId6"/>
          <a:stretch/>
        </p:blipFill>
        <p:spPr>
          <a:xfrm>
            <a:off x="3143160" y="2928960"/>
            <a:ext cx="2590920" cy="33577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0"/>
          <p:cNvSpPr/>
          <p:nvPr/>
        </p:nvSpPr>
        <p:spPr>
          <a:xfrm>
            <a:off x="714240" y="4357800"/>
            <a:ext cx="2071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11" descr="http://malenkie-gnomiki.ru/wp-content/uploads/2012/02/b.png"/>
          <p:cNvPicPr/>
          <p:nvPr/>
        </p:nvPicPr>
        <p:blipFill>
          <a:blip r:embed="rId7"/>
          <a:stretch/>
        </p:blipFill>
        <p:spPr>
          <a:xfrm>
            <a:off x="285840" y="4662360"/>
            <a:ext cx="200016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http://static3.depositphotos.com/1005091/226/v/950/depositphotos_2260883-stock-illustration-steam-locomotive-with-driver-and.jpg"/>
          <p:cNvPicPr/>
          <p:nvPr/>
        </p:nvPicPr>
        <p:blipFill>
          <a:blip r:embed="rId1"/>
          <a:stretch/>
        </p:blipFill>
        <p:spPr>
          <a:xfrm>
            <a:off x="428760" y="357120"/>
            <a:ext cx="82864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https://im3-tub-ru.yandex.net/i?id=05bcbe7d9e0c856d9d9a3863f9e23f4d-l&amp;n=13"/>
          <p:cNvPicPr/>
          <p:nvPr/>
        </p:nvPicPr>
        <p:blipFill>
          <a:blip r:embed="rId1"/>
          <a:srcRect l="4228" t="5685" r="5803" b="12244"/>
          <a:stretch/>
        </p:blipFill>
        <p:spPr>
          <a:xfrm>
            <a:off x="428760" y="214200"/>
            <a:ext cx="8358120" cy="6429600"/>
          </a:xfrm>
          <a:prstGeom prst="rect">
            <a:avLst/>
          </a:prstGeom>
          <a:ln w="0">
            <a:noFill/>
          </a:ln>
        </p:spPr>
      </p:pic>
      <p:sp>
        <p:nvSpPr>
          <p:cNvPr id="159" name="TextBox 4"/>
          <p:cNvSpPr/>
          <p:nvPr/>
        </p:nvSpPr>
        <p:spPr>
          <a:xfrm>
            <a:off x="6215040" y="4500720"/>
            <a:ext cx="1928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5" descr="http://www.myjulia.ru/data/cache/2016/02/15/1395357_5965-800x600.jpg"/>
          <p:cNvPicPr/>
          <p:nvPr/>
        </p:nvPicPr>
        <p:blipFill>
          <a:blip r:embed="rId2"/>
          <a:stretch/>
        </p:blipFill>
        <p:spPr>
          <a:xfrm>
            <a:off x="6715080" y="4643280"/>
            <a:ext cx="177012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колько слогов ?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буш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лосипе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онти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ран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иблиотека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Рисунок 3" descr="http://www.myjulia.ru/data/cache/2016/02/15/1395357_5965-800x600.jpg"/>
          <p:cNvPicPr/>
          <p:nvPr/>
        </p:nvPicPr>
        <p:blipFill>
          <a:blip r:embed="rId1"/>
          <a:stretch/>
        </p:blipFill>
        <p:spPr>
          <a:xfrm>
            <a:off x="6286680" y="4143240"/>
            <a:ext cx="176976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rcRect l="0" t="0" r="19512" b="0"/>
          <a:stretch/>
        </p:blipFill>
        <p:spPr>
          <a:xfrm>
            <a:off x="214200" y="214200"/>
            <a:ext cx="707256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s://im0-tub-ru.yandex.net/i?id=7727dd83198fab422d6caddb17717c1d-l&amp;n=13"/>
          <p:cNvPicPr/>
          <p:nvPr/>
        </p:nvPicPr>
        <p:blipFill>
          <a:blip r:embed="rId1"/>
          <a:stretch/>
        </p:blipFill>
        <p:spPr>
          <a:xfrm>
            <a:off x="357120" y="285840"/>
            <a:ext cx="2419560" cy="3429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http://s60.radikal.ru/i167/1304/e6/0fc7b1add8b7.jpg"/>
          <p:cNvPicPr/>
          <p:nvPr/>
        </p:nvPicPr>
        <p:blipFill>
          <a:blip r:embed="rId2"/>
          <a:stretch/>
        </p:blipFill>
        <p:spPr>
          <a:xfrm>
            <a:off x="642960" y="3929040"/>
            <a:ext cx="2857320" cy="2604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https://im0-tub-ru.yandex.net/i?id=7987c31bff96537ad2961d12546e17ad-l&amp;n=13"/>
          <p:cNvPicPr/>
          <p:nvPr/>
        </p:nvPicPr>
        <p:blipFill>
          <a:blip r:embed="rId3"/>
          <a:stretch/>
        </p:blipFill>
        <p:spPr>
          <a:xfrm>
            <a:off x="2857680" y="285840"/>
            <a:ext cx="2952720" cy="2214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http://www.stihi.ru/pics/2016/08/13/3416.jpg"/>
          <p:cNvPicPr/>
          <p:nvPr/>
        </p:nvPicPr>
        <p:blipFill>
          <a:blip r:embed="rId4"/>
          <a:stretch/>
        </p:blipFill>
        <p:spPr>
          <a:xfrm rot="552600">
            <a:off x="3142800" y="2499840"/>
            <a:ext cx="2522520" cy="2500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http://www.passionforum.ru/upload/180/u18068/047/45671272.jpg"/>
          <p:cNvPicPr/>
          <p:nvPr/>
        </p:nvPicPr>
        <p:blipFill>
          <a:blip r:embed="rId5"/>
          <a:stretch/>
        </p:blipFill>
        <p:spPr>
          <a:xfrm rot="580200">
            <a:off x="5833800" y="531720"/>
            <a:ext cx="3135240" cy="2351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http://zaikinmir.ru/kartinki/images/karlson/karlson-kartinki-11.jpg"/>
          <p:cNvPicPr/>
          <p:nvPr/>
        </p:nvPicPr>
        <p:blipFill>
          <a:blip r:embed="rId6"/>
          <a:stretch/>
        </p:blipFill>
        <p:spPr>
          <a:xfrm rot="950400">
            <a:off x="5527800" y="3773520"/>
            <a:ext cx="3082680" cy="2714760"/>
          </a:xfrm>
          <a:prstGeom prst="rect">
            <a:avLst/>
          </a:prstGeom>
          <a:ln w="0">
            <a:noFill/>
          </a:ln>
        </p:spPr>
      </p:pic>
      <p:sp>
        <p:nvSpPr>
          <p:cNvPr id="173" name="TextBox 9"/>
          <p:cNvSpPr/>
          <p:nvPr/>
        </p:nvSpPr>
        <p:spPr>
          <a:xfrm>
            <a:off x="3571920" y="4857840"/>
            <a:ext cx="2571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исунок 10" descr="http://japan-fukuoka.ru/photos/bukvy-dlya-detey-v-100636-large.jpg"/>
          <p:cNvPicPr/>
          <p:nvPr/>
        </p:nvPicPr>
        <p:blipFill>
          <a:blip r:embed="rId7"/>
          <a:srcRect l="0" t="0" r="52001" b="0"/>
          <a:stretch/>
        </p:blipFill>
        <p:spPr>
          <a:xfrm>
            <a:off x="3571920" y="4714920"/>
            <a:ext cx="171432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 Black"/>
              </a:rPr>
              <a:t>АЗБУК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https://img1.labirint.ru/books28/275299/coverbig.jpg"/>
          <p:cNvPicPr/>
          <p:nvPr/>
        </p:nvPicPr>
        <p:blipFill>
          <a:blip r:embed="rId1"/>
          <a:stretch/>
        </p:blipFill>
        <p:spPr>
          <a:xfrm rot="1182000">
            <a:off x="2352600" y="1964880"/>
            <a:ext cx="467856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2" descr="http://sadik130.ru/images/Dokumenty/Izobrajeniya/konsultacii/sticker_p-57633.png"/>
          <p:cNvPicPr/>
          <p:nvPr/>
        </p:nvPicPr>
        <p:blipFill>
          <a:blip r:embed="rId1"/>
          <a:stretch/>
        </p:blipFill>
        <p:spPr>
          <a:xfrm>
            <a:off x="571680" y="285840"/>
            <a:ext cx="78688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285840"/>
            <a:ext cx="711504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утешествие к Азбук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4" descr="https://im2-tub-ru.yandex.net/i?id=1b49c567e6d2481209c7cb2065eeb630-l&amp;n=13"/>
          <p:cNvPicPr/>
          <p:nvPr/>
        </p:nvPicPr>
        <p:blipFill>
          <a:blip r:embed="rId1"/>
          <a:stretch/>
        </p:blipFill>
        <p:spPr>
          <a:xfrm>
            <a:off x="2000160" y="1643040"/>
            <a:ext cx="635796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4" descr="http://lusana.ru/files/7958/573/16.jpg"/>
          <p:cNvPicPr/>
          <p:nvPr/>
        </p:nvPicPr>
        <p:blipFill>
          <a:blip r:embed="rId1"/>
          <a:stretch/>
        </p:blipFill>
        <p:spPr>
          <a:xfrm>
            <a:off x="428760" y="285840"/>
            <a:ext cx="84294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2" descr="http://fs00.infourok.ru/images/doc/190/217116/img21.jpg"/>
          <p:cNvPicPr/>
          <p:nvPr/>
        </p:nvPicPr>
        <p:blipFill>
          <a:blip r:embed="rId1"/>
          <a:stretch/>
        </p:blipFill>
        <p:spPr>
          <a:xfrm>
            <a:off x="357120" y="357120"/>
            <a:ext cx="8501040" cy="61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77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8" dur="770" fill="hold"/>
                                        <p:tgtEl>
                                          <p:spTgt spid="1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0" dur="77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2" dur="77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https://im2-tub-ru.yandex.net/i?id=bb7efa16dd24f426e42a275791a4d640-l&amp;n=13"/>
          <p:cNvPicPr/>
          <p:nvPr/>
        </p:nvPicPr>
        <p:blipFill>
          <a:blip r:embed="rId1"/>
          <a:stretch/>
        </p:blipFill>
        <p:spPr>
          <a:xfrm>
            <a:off x="500040" y="214200"/>
            <a:ext cx="82868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1" descr="https://im2-tub-ru.yandex.net/i?id=e93a1ddd523a283e4187514b4ca55190-l&amp;n=13"/>
          <p:cNvPicPr/>
          <p:nvPr/>
        </p:nvPicPr>
        <p:blipFill>
          <a:blip r:embed="rId1"/>
          <a:srcRect l="12988" t="0" r="11971" b="0"/>
          <a:stretch/>
        </p:blipFill>
        <p:spPr>
          <a:xfrm>
            <a:off x="500040" y="357120"/>
            <a:ext cx="5357880" cy="6072120"/>
          </a:xfrm>
          <a:prstGeom prst="rect">
            <a:avLst/>
          </a:prstGeom>
          <a:ln w="0">
            <a:noFill/>
          </a:ln>
        </p:spPr>
      </p:pic>
      <p:pic>
        <p:nvPicPr>
          <p:cNvPr id="129" name="TextBox 4" descr=""/>
          <p:cNvPicPr/>
          <p:nvPr/>
        </p:nvPicPr>
        <p:blipFill>
          <a:blip r:embed="rId2"/>
          <a:stretch/>
        </p:blipFill>
        <p:spPr>
          <a:xfrm>
            <a:off x="5846760" y="549360"/>
            <a:ext cx="1676520" cy="57420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"/>
          <p:cNvSpPr/>
          <p:nvPr/>
        </p:nvSpPr>
        <p:spPr>
          <a:xfrm>
            <a:off x="7072200" y="2095560"/>
            <a:ext cx="1071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5" descr="http://alphabetonline.ru/images/letters2/z/z7.png"/>
          <p:cNvPicPr/>
          <p:nvPr/>
        </p:nvPicPr>
        <p:blipFill>
          <a:blip r:embed="rId3"/>
          <a:stretch/>
        </p:blipFill>
        <p:spPr>
          <a:xfrm>
            <a:off x="7143840" y="4000680"/>
            <a:ext cx="17143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http://urokitvorchectva.ru/wp-content/uploads/2013/05/1296472502_parovozik2-1.jpg"/>
          <p:cNvPicPr/>
          <p:nvPr/>
        </p:nvPicPr>
        <p:blipFill>
          <a:blip r:embed="rId1"/>
          <a:stretch/>
        </p:blipFill>
        <p:spPr>
          <a:xfrm>
            <a:off x="857160" y="1214280"/>
            <a:ext cx="795204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1" descr="http://images.myshared.ru/4/124687/slide_12.jpg"/>
          <p:cNvPicPr/>
          <p:nvPr/>
        </p:nvPicPr>
        <p:blipFill>
          <a:blip r:embed="rId1"/>
          <a:stretch/>
        </p:blipFill>
        <p:spPr>
          <a:xfrm>
            <a:off x="357120" y="285840"/>
            <a:ext cx="8429760" cy="624996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3" descr="http://japan-fukuoka.ru/photos/bukvy-dlya-detey-v-100636-large.jpg"/>
          <p:cNvPicPr/>
          <p:nvPr/>
        </p:nvPicPr>
        <p:blipFill>
          <a:blip r:embed="rId2"/>
          <a:srcRect l="50730" t="0" r="0" b="0"/>
          <a:stretch/>
        </p:blipFill>
        <p:spPr>
          <a:xfrm>
            <a:off x="6858000" y="4214880"/>
            <a:ext cx="180036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http://sadik130.ru/images/Dokumenty/Izobrajeniya/konsultacii/sticker_p-57633.png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ds4himki.edumsko.ru/uploads/3000/2281/section/210846/1.jpg"/>
          <p:cNvPicPr/>
          <p:nvPr/>
        </p:nvPicPr>
        <p:blipFill>
          <a:blip r:embed="rId1"/>
          <a:stretch/>
        </p:blipFill>
        <p:spPr>
          <a:xfrm>
            <a:off x="357120" y="1285920"/>
            <a:ext cx="8429760" cy="5400720"/>
          </a:xfrm>
          <a:prstGeom prst="rect">
            <a:avLst/>
          </a:prstGeom>
          <a:ln w="0">
            <a:noFill/>
          </a:ln>
        </p:spPr>
      </p:pic>
      <p:sp>
        <p:nvSpPr>
          <p:cNvPr id="139" name="TextBox 5"/>
          <p:cNvSpPr/>
          <p:nvPr/>
        </p:nvSpPr>
        <p:spPr>
          <a:xfrm>
            <a:off x="1285920" y="357120"/>
            <a:ext cx="621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d0d0d"/>
                </a:solidFill>
                <a:latin typeface="Arial"/>
              </a:rPr>
              <a:t>Собиралкин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6000840" y="4429080"/>
            <a:ext cx="228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6" descr="http://japan-fukuoka.ru/photos/bukvy-dlya-detey-v-100636-large.jpg"/>
          <p:cNvPicPr/>
          <p:nvPr/>
        </p:nvPicPr>
        <p:blipFill>
          <a:blip r:embed="rId2"/>
          <a:srcRect l="0" t="0" r="52001" b="0"/>
          <a:stretch/>
        </p:blipFill>
        <p:spPr>
          <a:xfrm>
            <a:off x="6786720" y="4429080"/>
            <a:ext cx="171432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http://static3.depositphotos.com/1005091/226/v/950/depositphotos_2260883-stock-illustration-steam-locomotive-with-driver-and.jpg"/>
          <p:cNvPicPr/>
          <p:nvPr/>
        </p:nvPicPr>
        <p:blipFill>
          <a:blip r:embed="rId1"/>
          <a:srcRect l="1900" t="12659" r="2220" b="5081"/>
          <a:stretch/>
        </p:blipFill>
        <p:spPr>
          <a:xfrm>
            <a:off x="357120" y="214200"/>
            <a:ext cx="831708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58:43Z</dcterms:created>
  <dc:creator>Федотова Виктория Александровна</dc:creator>
  <dc:description/>
  <dc:language>en-US</dc:language>
  <cp:lastModifiedBy>Галина</cp:lastModifiedBy>
  <dcterms:modified xsi:type="dcterms:W3CDTF">2021-03-11T11:37:53Z</dcterms:modified>
  <cp:revision>11</cp:revision>
  <dc:subject/>
  <dc:title>Слайд 1</dc:title>
</cp:coreProperties>
</file>